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920-75BA-41F7-88A3-85E1A210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4A3-076D-4749-9D5B-8350679F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2CB-F34A-4433-9BB2-967A0F70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008-7BEC-44DA-BF76-E84939B0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9C5-A983-4A03-B999-94468B08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3BC-BFD4-4749-BC85-62C84EDF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B8D-0C85-4049-9CFF-E5A5021B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C1B-6063-4318-89F9-421ABBEE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A3F-CAB8-4D96-8525-3FFFB058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24D-A178-45EB-9285-688506E9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01F-DFCF-4098-AF66-BEBA9E8A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620-AEE9-4EA8-9E6E-6F67CC78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45E6-48F2-4464-BEFD-E2FBF29C5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wmf"/><Relationship Id="rId14" Type="http://schemas.openxmlformats.org/officeDocument/2006/relationships/hyperlink" Target="http://www.freeplaymusic.com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eb.mit.edu/invent/iow/cartwright.html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152280"/>
            <a:ext cx="72435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rnd" w="9360">
                  <a:solidFill>
                    <a:srgbClr val="cc99ff"/>
                  </a:solidFill>
                  <a:custDash>
                    <a:ds d="100000" sp="1000"/>
                  </a:custDash>
                  <a:miter/>
                </a:ln>
                <a:solidFill>
                  <a:srgbClr val="b947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low Solid Italic"/>
              </a:rPr>
              <a:t>Baseball</a:t>
            </a:r>
            <a:endParaRPr b="0" i="1" lang="en-US" sz="1800" spc="1" strike="noStrike">
              <a:ln cap="rnd" w="9360">
                <a:solidFill>
                  <a:srgbClr val="cc99ff"/>
                </a:solidFill>
                <a:custDash>
                  <a:ds d="100000" sp="1000"/>
                </a:custDash>
                <a:miter/>
              </a:ln>
              <a:solidFill>
                <a:srgbClr val="b947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5029200"/>
            <a:ext cx="2590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ck R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1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7920" y="3505320"/>
            <a:ext cx="403848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19720" y="4343400"/>
            <a:ext cx="990360" cy="915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048120" y="451008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638680" y="15228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847880" cy="1984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429000" y="0"/>
            <a:ext cx="1447920" cy="1003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7313760" y="228600"/>
            <a:ext cx="1830240" cy="148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057400" y="1371600"/>
            <a:ext cx="1828800" cy="1380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4572000" y="1295280"/>
            <a:ext cx="893880" cy="1067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0" y="2057400"/>
            <a:ext cx="1832040" cy="1203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457200" y="4495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0" y="4800600"/>
            <a:ext cx="911160" cy="890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05520" y="2971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Luscious Swirl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b. 27, 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Cartwright"/>
          <p:cNvPicPr/>
          <p:nvPr/>
        </p:nvPicPr>
        <p:blipFill>
          <a:blip r:embed="rId1"/>
          <a:srcRect l="25008" t="0" r="0" b="0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895480"/>
            <a:ext cx="7162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ebruary 23, 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artwrigh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Cartwright"/>
          <p:cNvPicPr/>
          <p:nvPr/>
        </p:nvPicPr>
        <p:blipFill>
          <a:blip r:embed="rId3"/>
          <a:srcRect l="0" t="0" r="75843" b="0"/>
          <a:stretch/>
        </p:blipFill>
        <p:spPr>
          <a:xfrm>
            <a:off x="0" y="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62720" y="3808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 Cartwright invented the sport called Bas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ball is a offshoot of an English sport called Roun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ission of 1907 said that baseball had been "invented" by Abner Doubley in 1839. But it was actually Alexander J. Cartwr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18th century. The game was already called "base-b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me was won by the first team to score 21 runs, in however many inn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ball had become an activity for wealthy young 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War soldiers who had played baseball brought the game back to their hometow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or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exander J. Cartwr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nvented baseball so he had something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y thought Abner Doubley invented baseball Alexander tried to prove he 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ade up the sport out of no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5:11:52Z</dcterms:created>
  <dc:creator>install</dc:creator>
  <dc:description/>
  <dc:language>en-US</dc:language>
  <cp:lastModifiedBy>install</cp:lastModifiedBy>
  <dcterms:modified xsi:type="dcterms:W3CDTF">2012-03-09T15:24:41Z</dcterms:modified>
  <cp:revision>6</cp:revision>
  <dc:subject/>
  <dc:title>Slide 1</dc:title>
</cp:coreProperties>
</file>